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8EB-9F4E-4463-ADC7-AB43833E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943-83B9-43EA-AB73-AD4935BC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EAF-727C-4598-9DA7-B98A71A1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B23-6545-4EE6-8C48-5C8AC922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717D-BFF0-4BA9-9F4C-F7E1A486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C3F6-F842-4ABB-B7D0-5284F003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3743-5567-4C18-BF8E-4EFBA7C7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5A81-6F51-4208-86CF-6F330AA9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B103-B73B-4482-B33F-11FAA6D7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BDC5-CF95-4DA0-9B13-0F8A6EF5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C632-8E83-414A-A9DE-1A2B5DBA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E1B-7D6F-4DEA-A81D-FF01322F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BBE7-B28D-4DBB-B561-912F8C11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9153-A211-41A7-9216-83B5EA73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0042-F517-4DF1-A138-8C313CB0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40AA-A0CD-4806-AE9E-3C072620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476D-2AF6-4532-BEC7-3DD93F78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9DA3F-CF2C-4814-9428-29C6F6BF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E270C-B537-481B-80C7-0941CA9E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816D7-D681-44AD-A033-F2D75C9C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201FF-C040-48E7-9101-C0EBC33B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E65C8-4D3C-4C77-910E-02E1D0DA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DBA-A8F9-4B90-8C2B-6CD33BE2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D08B2-2B22-42FA-A547-DD33B492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007F8-694E-4C97-939E-051CFD15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0040E6-EC04-44A0-B4A0-DCCA5509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FDE43-9F39-48BF-A097-35846051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31FD9-F762-473F-A9B1-5FC4D653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06A65-3FC3-40ED-AF26-53EE7470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53780-578F-4947-A2B9-BB93DAA0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680C8-3F99-4982-BDB6-29CA69CE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AB0C75-2A07-4AC7-BA48-D9831B78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BAF723-1A70-49AB-ACED-598EA726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2A6-5649-4F0E-B5BB-1B4089D9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4F05CE-26A6-4EFF-AD05-420E25E6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F0C9B-D9F3-4FA8-989F-FBF40C7A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A2EF41-C303-4E40-A98D-2CEE8E0E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9BD53-5909-42F3-8BC2-4983FFC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F9E76-42FF-493F-976B-EC18C29F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672AD7-337F-47CF-A9B3-5DE91FA5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D4245D-FE3C-4A5B-9740-3A177EBE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128A2A-EA55-466E-A9D7-EAA8E333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B88CA-761C-4E5A-A775-E986A285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8F814-288E-4DE3-AAFD-BD8F6B46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CCF-C272-47AA-ADA8-9F25F1B9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E5481-5A81-474B-BED2-27227C5F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D643AF-6D68-4C4F-9BC6-B745A7DD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62ED4-5DB7-4899-8121-3F21AE92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2779B-4FE0-4B35-87CF-A13884B3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18AF8-3565-47E5-8E9D-A8BC2CA2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BBC21-7844-4C5A-A90A-35149A18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E92C4-C73A-4698-A063-E5D43D7C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7E4E5-788C-471B-8E3B-8BB63F38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B95F2-9EAF-4942-AA42-6C878496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8A25B-D97A-4D5A-92C7-487C697A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F72-E293-4E0E-A07B-1D35C328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964A8-B583-4448-B2E6-8BC50253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FC3C1-EA3C-4C88-8EBF-13FD0328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AA6DA-46D2-4591-915D-69038D78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E31CA-662B-4378-AADC-792AEDA4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2A524-662C-4ED3-A0F3-357D722D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9BC1B-475C-4726-B00B-C7539AC6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DBF3A-3309-44CB-9BF7-271E0DF1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FBA9E-D949-483F-B091-0A28DC67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9A129-BB05-4C25-AEAB-4F189BF7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B9696-75B8-483F-95D5-3927D8E1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3B1-1E2B-422D-B662-2D373FE2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BEF07-739F-4501-A56F-72FD65FD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50FD9-51FB-4D18-A301-8D70D5D0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117E8-F8E9-4435-BCCB-5C2A5553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424B7-7710-45BD-A112-107607D5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99C7E4-B613-458B-8640-71D1D80B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3901A-9A7D-464D-B0B0-904FED19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E218B-6BB5-4A52-863F-405557E7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BEF61-EDFA-4CF4-89FA-63AE18A2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C579F-2599-4CE9-9FCF-7DCDB68B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72EF52-B0FD-496E-8EBF-7CA2A6BC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A86-9EFF-42B2-A9F3-B7719B72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7DC026-4658-49EF-9536-B94B3FA0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860568-5F37-4077-A59B-170E43F3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50A3DB-33E6-4941-9426-99524BED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F2F1A-412E-4BD8-8216-E12D056E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A7CAC5-EEAB-4071-AF78-82B67A54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09593-7D9A-4826-A2F5-9CD19F21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FDD26-2F47-4AA9-BC09-C90E3D3B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D4614-7D9D-442C-B06C-A0723BEA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5185F-D221-4D98-B8E9-BEBA7AC2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1C518-B715-4894-87AC-1618B802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F25-BDD9-49C2-A378-1289ED87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DE6B4-7B6D-4677-81BC-1D5319B2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64313-37B2-44E4-BD69-CD05DCE5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73B36-8BB4-4224-AFD6-F365EFA5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ABD19-186C-49AA-9512-C54F464F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5D05C-0AD8-471C-BDDD-547EFB40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E090B-153E-4A03-A40D-7BDBFDFE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A7DCD-38AC-4F3E-A315-DACC7EFF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B393-446F-41A5-9024-31414419F7E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A4C7-23BD-4363-9353-F5AE7627F5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FDFC-7CBD-42F0-8D7E-954E3F2BB9F1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07E3-23DA-4DB6-AC7D-86E4C8AA130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1F23-C225-4D93-BCFF-D3164E68F4A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2A5E-4A7C-4B0F-9DA8-112C50A0F81D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C13A-49CB-4988-9502-08C67F5191F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4028-2663-4C11-996A-6BB27556E5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7861-80FB-4F5B-B1D2-B755916A0E9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261E-3A31-4536-BADD-9AC5293027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4C4C-1B57-4E15-93DF-FD58F025C84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0A17-902D-439D-AE9A-1DC275F6F803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AD77-A281-430C-B820-C0D04B32962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8D37-1567-494C-930D-835E9E48BBF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41BA-23B5-4BA5-BCD0-AC0A011729E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9E8D-2D6F-46DF-A292-1145C29282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39"/>
          <p:cNvGrpSpPr/>
          <p:nvPr/>
        </p:nvGrpSpPr>
        <p:grpSpPr>
          <a:xfrm>
            <a:off x="914400" y="914400"/>
            <a:ext cx="7162920" cy="5016600"/>
            <a:chOff x="914400" y="914400"/>
            <a:chExt cx="7162920" cy="5016600"/>
          </a:xfrm>
        </p:grpSpPr>
        <p:pic>
          <p:nvPicPr>
            <p:cNvPr id="351" name="Picture 4" descr="D:\C21 PowerPoint\Multi_Journal\art for blue\Ch25\Ch25-03a.jpg"/>
            <p:cNvPicPr/>
            <p:nvPr/>
          </p:nvPicPr>
          <p:blipFill>
            <a:blip r:embed="rId1"/>
            <a:srcRect l="1260" t="0" r="0" b="48976"/>
            <a:stretch/>
          </p:blipFill>
          <p:spPr>
            <a:xfrm>
              <a:off x="914400" y="914400"/>
              <a:ext cx="716292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31"/>
            <p:cNvSpPr/>
            <p:nvPr/>
          </p:nvSpPr>
          <p:spPr>
            <a:xfrm>
              <a:off x="2419920" y="26668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32"/>
            <p:cNvSpPr/>
            <p:nvPr/>
          </p:nvSpPr>
          <p:spPr>
            <a:xfrm>
              <a:off x="3798720" y="2666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0"/>
            <p:cNvSpPr/>
            <p:nvPr/>
          </p:nvSpPr>
          <p:spPr>
            <a:xfrm>
              <a:off x="2432520" y="20718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2"/>
            <p:cNvSpPr/>
            <p:nvPr/>
          </p:nvSpPr>
          <p:spPr>
            <a:xfrm>
              <a:off x="2419920" y="327672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3"/>
            <p:cNvSpPr/>
            <p:nvPr/>
          </p:nvSpPr>
          <p:spPr>
            <a:xfrm>
              <a:off x="2470320" y="39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24"/>
            <p:cNvSpPr/>
            <p:nvPr/>
          </p:nvSpPr>
          <p:spPr>
            <a:xfrm>
              <a:off x="2419920" y="464184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Text Box 25"/>
            <p:cNvSpPr/>
            <p:nvPr/>
          </p:nvSpPr>
          <p:spPr>
            <a:xfrm>
              <a:off x="2457360" y="5340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27"/>
            <p:cNvSpPr/>
            <p:nvPr/>
          </p:nvSpPr>
          <p:spPr>
            <a:xfrm>
              <a:off x="5132160" y="5334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28"/>
            <p:cNvSpPr/>
            <p:nvPr/>
          </p:nvSpPr>
          <p:spPr>
            <a:xfrm>
              <a:off x="3912840" y="5334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29"/>
            <p:cNvSpPr/>
            <p:nvPr/>
          </p:nvSpPr>
          <p:spPr>
            <a:xfrm>
              <a:off x="6351480" y="5334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30"/>
            <p:cNvSpPr/>
            <p:nvPr/>
          </p:nvSpPr>
          <p:spPr>
            <a:xfrm>
              <a:off x="3811320" y="2071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34"/>
            <p:cNvSpPr/>
            <p:nvPr/>
          </p:nvSpPr>
          <p:spPr>
            <a:xfrm>
              <a:off x="3798720" y="3276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36"/>
            <p:cNvSpPr/>
            <p:nvPr/>
          </p:nvSpPr>
          <p:spPr>
            <a:xfrm>
              <a:off x="3798720" y="3962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38"/>
            <p:cNvSpPr/>
            <p:nvPr/>
          </p:nvSpPr>
          <p:spPr>
            <a:xfrm>
              <a:off x="3798720" y="4630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Freeform 10"/>
          <p:cNvSpPr/>
          <p:nvPr/>
        </p:nvSpPr>
        <p:spPr>
          <a:xfrm>
            <a:off x="5257800" y="4952880"/>
            <a:ext cx="304920" cy="76212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8"/>
          <p:cNvSpPr/>
          <p:nvPr/>
        </p:nvSpPr>
        <p:spPr>
          <a:xfrm>
            <a:off x="4114800" y="3657600"/>
            <a:ext cx="1295280" cy="20574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7"/>
          <p:cNvSpPr/>
          <p:nvPr/>
        </p:nvSpPr>
        <p:spPr>
          <a:xfrm>
            <a:off x="3581280" y="3048120"/>
            <a:ext cx="1828800" cy="266688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6"/>
          <p:cNvSpPr/>
          <p:nvPr/>
        </p:nvSpPr>
        <p:spPr>
          <a:xfrm>
            <a:off x="1981080" y="2438280"/>
            <a:ext cx="3429000" cy="327672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CALCULATING FEDERAL INCOME TAX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Oval 11"/>
          <p:cNvSpPr/>
          <p:nvPr/>
        </p:nvSpPr>
        <p:spPr>
          <a:xfrm>
            <a:off x="609480" y="4419720"/>
            <a:ext cx="38124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2"/>
          <p:cNvSpPr/>
          <p:nvPr/>
        </p:nvSpPr>
        <p:spPr>
          <a:xfrm>
            <a:off x="609480" y="1905120"/>
            <a:ext cx="38124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13"/>
          <p:cNvSpPr/>
          <p:nvPr/>
        </p:nvSpPr>
        <p:spPr>
          <a:xfrm>
            <a:off x="609480" y="3124080"/>
            <a:ext cx="381240" cy="38124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14"/>
          <p:cNvSpPr/>
          <p:nvPr/>
        </p:nvSpPr>
        <p:spPr>
          <a:xfrm>
            <a:off x="609480" y="3657600"/>
            <a:ext cx="38124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15"/>
          <p:cNvSpPr/>
          <p:nvPr/>
        </p:nvSpPr>
        <p:spPr>
          <a:xfrm>
            <a:off x="609480" y="2514600"/>
            <a:ext cx="38124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16"/>
          <p:cNvSpPr/>
          <p:nvPr/>
        </p:nvSpPr>
        <p:spPr>
          <a:xfrm>
            <a:off x="609480" y="4952880"/>
            <a:ext cx="381240" cy="38124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40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3, page 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FEDERAL INCOME TAX ADJUST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9" name="Picture 4" descr="D:\C21 PowerPoint\Multi_Journal\art for blue\Ch25\Ch25-03b.jpg"/>
          <p:cNvPicPr/>
          <p:nvPr/>
        </p:nvPicPr>
        <p:blipFill>
          <a:blip r:embed="rId1"/>
          <a:srcRect l="4932" t="0" r="0" b="62002"/>
          <a:stretch/>
        </p:blipFill>
        <p:spPr>
          <a:xfrm>
            <a:off x="378000" y="1600200"/>
            <a:ext cx="7696080" cy="3895560"/>
          </a:xfrm>
          <a:prstGeom prst="rect">
            <a:avLst/>
          </a:prstGeom>
          <a:ln w="0">
            <a:noFill/>
          </a:ln>
        </p:spPr>
      </p:pic>
      <p:sp>
        <p:nvSpPr>
          <p:cNvPr id="380" name="Oval 6"/>
          <p:cNvSpPr/>
          <p:nvPr/>
        </p:nvSpPr>
        <p:spPr>
          <a:xfrm>
            <a:off x="4267080" y="3048120"/>
            <a:ext cx="38124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Group 15"/>
          <p:cNvGrpSpPr/>
          <p:nvPr/>
        </p:nvGrpSpPr>
        <p:grpSpPr>
          <a:xfrm>
            <a:off x="5029200" y="3124080"/>
            <a:ext cx="3429000" cy="1447920"/>
            <a:chOff x="5029200" y="3124080"/>
            <a:chExt cx="3429000" cy="1447920"/>
          </a:xfrm>
        </p:grpSpPr>
        <p:sp>
          <p:nvSpPr>
            <p:cNvPr id="382" name="Oval 7"/>
            <p:cNvSpPr/>
            <p:nvPr/>
          </p:nvSpPr>
          <p:spPr>
            <a:xfrm>
              <a:off x="5029200" y="4191120"/>
              <a:ext cx="381240" cy="38088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8077320" y="31240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Oval 9"/>
          <p:cNvSpPr/>
          <p:nvPr/>
        </p:nvSpPr>
        <p:spPr>
          <a:xfrm>
            <a:off x="4873680" y="4876920"/>
            <a:ext cx="38088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434880" y="636120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 the account bal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34880" y="5622840"/>
            <a:ext cx="71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Calculate and enter the federal income tax adjust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3"/>
          <p:cNvSpPr/>
          <p:nvPr/>
        </p:nvSpPr>
        <p:spPr>
          <a:xfrm>
            <a:off x="434880" y="5987880"/>
            <a:ext cx="74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nd rule the Adjustments colum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7341120" y="68572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3, page 6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0"/>
          <p:cNvSpPr/>
          <p:nvPr/>
        </p:nvSpPr>
        <p:spPr>
          <a:xfrm>
            <a:off x="514440" y="548640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 the net incom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514440" y="581508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the column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MPLETING A WORK SHEE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2" name="Picture 4" descr="D:\C21 PowerPoint\Multi_Journal\art for blue\Ch25\Ch25-03c.jpg"/>
          <p:cNvPicPr/>
          <p:nvPr/>
        </p:nvPicPr>
        <p:blipFill>
          <a:blip r:embed="rId1"/>
          <a:srcRect l="4932" t="0" r="0" b="62002"/>
          <a:stretch/>
        </p:blipFill>
        <p:spPr>
          <a:xfrm>
            <a:off x="404640" y="914400"/>
            <a:ext cx="7696440" cy="389556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1"/>
          <p:cNvSpPr/>
          <p:nvPr/>
        </p:nvSpPr>
        <p:spPr>
          <a:xfrm>
            <a:off x="514440" y="4800600"/>
            <a:ext cx="74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otal the income statement and balance sheet colum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514440" y="5148360"/>
            <a:ext cx="77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and enter the net income after federal income t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515880" y="615456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double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25"/>
          <p:cNvGrpSpPr/>
          <p:nvPr/>
        </p:nvGrpSpPr>
        <p:grpSpPr>
          <a:xfrm>
            <a:off x="6172200" y="3505320"/>
            <a:ext cx="990720" cy="380880"/>
            <a:chOff x="6172200" y="3505320"/>
            <a:chExt cx="990720" cy="380880"/>
          </a:xfrm>
        </p:grpSpPr>
        <p:sp>
          <p:nvSpPr>
            <p:cNvPr id="397" name="Oval 5"/>
            <p:cNvSpPr/>
            <p:nvPr/>
          </p:nvSpPr>
          <p:spPr>
            <a:xfrm>
              <a:off x="6172200" y="3505320"/>
              <a:ext cx="380880" cy="38088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Oval 16"/>
            <p:cNvSpPr/>
            <p:nvPr/>
          </p:nvSpPr>
          <p:spPr>
            <a:xfrm>
              <a:off x="6781680" y="3505320"/>
              <a:ext cx="381240" cy="38088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18"/>
          <p:cNvGrpSpPr/>
          <p:nvPr/>
        </p:nvGrpSpPr>
        <p:grpSpPr>
          <a:xfrm>
            <a:off x="228600" y="4038480"/>
            <a:ext cx="5181480" cy="381240"/>
            <a:chOff x="228600" y="4038480"/>
            <a:chExt cx="5181480" cy="381240"/>
          </a:xfrm>
        </p:grpSpPr>
        <p:sp>
          <p:nvSpPr>
            <p:cNvPr id="400" name="Oval 9"/>
            <p:cNvSpPr/>
            <p:nvPr/>
          </p:nvSpPr>
          <p:spPr>
            <a:xfrm>
              <a:off x="228600" y="40384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7"/>
            <p:cNvSpPr/>
            <p:nvPr/>
          </p:nvSpPr>
          <p:spPr>
            <a:xfrm>
              <a:off x="2743200" y="4267080"/>
              <a:ext cx="26668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Oval 20"/>
          <p:cNvSpPr/>
          <p:nvPr/>
        </p:nvSpPr>
        <p:spPr>
          <a:xfrm>
            <a:off x="5029200" y="4419720"/>
            <a:ext cx="380880" cy="38088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Group 22"/>
          <p:cNvGrpSpPr/>
          <p:nvPr/>
        </p:nvGrpSpPr>
        <p:grpSpPr>
          <a:xfrm>
            <a:off x="8000640" y="4249800"/>
            <a:ext cx="914760" cy="380880"/>
            <a:chOff x="8000640" y="4249800"/>
            <a:chExt cx="914760" cy="380880"/>
          </a:xfrm>
        </p:grpSpPr>
        <p:sp>
          <p:nvSpPr>
            <p:cNvPr id="404" name="Line 21"/>
            <p:cNvSpPr/>
            <p:nvPr/>
          </p:nvSpPr>
          <p:spPr>
            <a:xfrm flipH="1">
              <a:off x="8000640" y="4437000"/>
              <a:ext cx="7318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Oval 7"/>
            <p:cNvSpPr/>
            <p:nvPr/>
          </p:nvSpPr>
          <p:spPr>
            <a:xfrm>
              <a:off x="8534520" y="4249800"/>
              <a:ext cx="380880" cy="38088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Group 24"/>
          <p:cNvGrpSpPr/>
          <p:nvPr/>
        </p:nvGrpSpPr>
        <p:grpSpPr>
          <a:xfrm>
            <a:off x="8001000" y="3235320"/>
            <a:ext cx="668160" cy="985680"/>
            <a:chOff x="8001000" y="3235320"/>
            <a:chExt cx="668160" cy="985680"/>
          </a:xfrm>
        </p:grpSpPr>
        <p:sp>
          <p:nvSpPr>
            <p:cNvPr id="407" name="Freeform 23"/>
            <p:cNvSpPr/>
            <p:nvPr/>
          </p:nvSpPr>
          <p:spPr>
            <a:xfrm>
              <a:off x="8001000" y="3503520"/>
              <a:ext cx="463680" cy="7174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Oval 19"/>
            <p:cNvSpPr/>
            <p:nvPr/>
          </p:nvSpPr>
          <p:spPr>
            <a:xfrm>
              <a:off x="8288280" y="3235320"/>
              <a:ext cx="380880" cy="38088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Text Box 26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5-3, page 6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9:10:43Z</dcterms:created>
  <dc:creator>Mary Colleen McLaughlin</dc:creator>
  <dc:description/>
  <dc:language>en-US</dc:language>
  <cp:lastModifiedBy>David Combs</cp:lastModifiedBy>
  <dcterms:modified xsi:type="dcterms:W3CDTF">2011-12-15T19:59:02Z</dcterms:modified>
  <cp:revision>77</cp:revision>
  <dc:subject/>
  <dc:title>ADJUSTING ENTRY FOR SUPPLIES</dc:title>
</cp:coreProperties>
</file>